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B2C1-61D3-4E28-9B65-8E33A0A3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8FB6-5519-4EA7-9EE6-C26215ED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291-C983-48D0-8C2E-B5AC790B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7767-EEE0-4361-9627-7A812E07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D6C0-D18A-4E51-ACAB-C127F4A4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F801-A241-4A64-835A-186AEC65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C0CC-F003-4A93-B95E-808CE9C8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A4CC-3368-49D6-AFF6-1A1EAF25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1A4F-2202-448A-9593-7400FDE4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DF23-5F98-46A8-A6ED-D3B19986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BB24-435A-4A10-98FB-BA993F04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9997-73F8-4742-AB4F-687536A2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428D-D00B-4E39-87C9-F4CA4EDF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7FB7-04A9-40D4-A6D2-CBD6051D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680B-3466-44D6-B778-607C659C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EF6F-6C70-4F03-B981-F86EC369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54AD-A339-4BDF-8154-84B7F27B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939-95FD-4DDE-9427-AC8F018B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4FB-DCAB-4802-9524-B8F8D138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302-8B68-4B27-B09D-0FBCBB00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33C9-DDD0-4AC4-8E95-98C67EF1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454-E28B-481C-8DED-8E8E300C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B64-E893-409A-B64D-CA53E31C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EE4C-45A7-4C7B-930B-F130C84D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C702-595C-4FDD-9C1F-6F18F95E423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EBAB-8827-4180-BDC4-3C7592C30C8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Strongest On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ocabul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ngero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 saf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vehicle that carries astronauts into spa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instrument that makes things far away appear to be clo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ngero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Not saf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naw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test to find out somet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person who goes into spa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ites at and wears awa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naw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Bites at and wears awa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arrat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natural force that makes everything on Earth move toward 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person who tells a sto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ehicle that carries astronauts into spa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arrat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A person who tells a sto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lativ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ople in the same fami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natural force that makes everything on Earth move toward 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person who goes into spa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lativ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  People in the same fami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23:21:01Z</dcterms:created>
  <dc:creator>Romona Hunt</dc:creator>
  <dc:description/>
  <dc:language>en-US</dc:language>
  <cp:lastModifiedBy>Romona Hunt</cp:lastModifiedBy>
  <dcterms:modified xsi:type="dcterms:W3CDTF">2007-09-16T00:46:29Z</dcterms:modified>
  <cp:revision>4</cp:revision>
  <dc:subject/>
  <dc:title>Exploring Space</dc:title>
</cp:coreProperties>
</file>